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E2ECC-5544-4007-A26A-11ADA0FC01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ectious Diseas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oh Wil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fectious Diseas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y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doh Wils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m Negative 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ram Negative wal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pathog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sites (Eukaryotic Pathoge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gi e.g. Candida, Aspergill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ozoa e.g. Plasmodium, Schistoso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ms e.g. Ascaris, Tae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ypes of pathoge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rasites (Eukaryotic Pathogen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ungi e.g. Candida, Aspergillu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tozoa e.g. Plasmodium, Schistosom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orms e.g. Ascaris, Taeni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pathog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ru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pieces of DNA or RNA surrounded by protein coat. The may 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capsulated e.g. HIV, HBV, measles, mumps, influenza, rab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encapsulated e.g.adenoviruses, HPV, Pol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ypes of pathoge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irus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re pieces of DNA or RNA surrounded by protein coat. The may b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ncapsulated e.g. HIV, HBV, measles, mumps, influenza, rabi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n-encapsulated e.g.adenoviruses, HPV, Poli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ru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irus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des of transmiss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rect contact e.g. touching, handshaking, or sexual intercourse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direct contact e.g. food, water or droplets in air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imal vectors e.g. insect bites in malaria, plague and oncho, dog bite in rabi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es of transmi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rect contact e.g. touching, handshaking, or sexual intercours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rect contact e.g. food, water or droplets in air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imal vectors e.g. insect bites in malaria, plague and oncho, dog bite in rab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hogen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quence of activ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mission of causative agent to susceptible hos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herence of the agent to a target tissu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onization and invasion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mage to host by toxins or other mechanisms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it from hos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rvival outside host long enough for step 1 to occu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thogenesi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quence of activiti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ansmission of causative agent to susceptible hos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dherence of the agent to a target tissue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lonization and invasion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amage to host by toxins or other mechanisms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it from hos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urvival outside host long enough for step 1 to occur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irulent Facto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or all pathogens there is an infective dose and a lethal dos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irulent factors that confer pathogenicity include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ili that facilitate attachmen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psules that interfere with phagocytosi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otoxi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ndotoxi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teases that break down antibodi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bility to vary antigens to evade antibodi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rulent Fa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all pathogens there is an infective dose and a lethal do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rulent factors that confer pathogenicity includ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li that facilitate attachmen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psules that interfere with phagocyt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otox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otox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eases that break down antibod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ility to vary antigens to evade antibod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terial Pathogen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xin production. Toxins fall into two categories; exotoxins and endotox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asiveness, where bacteria grow to large numbers locally and produce enzymes that damage host tissu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acterial Pathogenesi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oxin production. Toxins fall into two categories; exotoxins and endotoxin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vasiveness, where bacteria grow to large numbers locally and produce enzymes that damage host tissues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otox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 labile (60-100 degrees for 30 mins) proteins produced and released by both gram positive and gram negative bacteri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ed by bacteria such as Clostridium (neurotoxins) and Bacillus (enterotoxin) (+)  and E. coli and Vibrio (enterotoxin) (-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otoxi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eat labile (60-100 degrees for 30 mins) proteins produced and released by both gram positive and gram negative bacteria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duced by bacteria such as Clostridium (neurotoxins) and Bacillus (enterotoxin) (+)  and E. coli and Vibrio (enterotoxin) (-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otox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heat stable (100 degrees for 1 hr) lipopolysaccharide produced only by gram –ve bacteria. They remain attached to cell w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se fever and shock and is of lower toxicity compared to exotox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ed by bacteria such as Salmonel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ndotoxi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re heat stable (100 degrees for 1 hr) lipopolysaccharide produced only by gram –ve bacteria. They remain attached to cell wall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use fever and shock and is of lower toxicity compared to exotoxin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duced by bacteria such as Salmonell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ectious Disease Te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pidemi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pide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e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nde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ho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portun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socom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rul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fectious Disease Term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pidemi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ndemi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ndemi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thoge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pportunis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socomi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irule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ole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sative Agent: Vibrio cholera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mptoms: severe diarrhoea up to 20 liters a day of “rice water stool”, vomiting, muscle cramps caused by loss fluid and electrolyt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hogenesis: Vibrio adheres to the small intestinal lining, multiply and produce the enterotoxin choleragen which causes the accumulation of cAMP. An increased secretion of water and electrolyte from the cells 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oler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usative Agent: Vibrio cholera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ymptoms: severe diarrhoea up to 20 liters a day of “rice water stool”, vomiting, muscle cramps caused by loss fluid and electrolyt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thogenesis: Vibrio adheres to the small intestinal lining, multiply and produce the enterotoxin choleragen which causes the accumulation of cAMP. An increased secretion of water and electrolyte from the cells resul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ole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Epidemiology: Feacally contaminated water, crabs and vegetables fertilized with human faeces. Has been eradicated most developed countries but a new strain discovered in 1992 is threatening another pandem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oler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. Epidemiology: Feacally contaminated water, crabs and vegetables fertilized with human faeces. Has been eradicated most developed countries but a new strain discovered in 1992 is threatening another pandemic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ole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ncubation period: 12-48 hou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 Lab diagnosis: Microscopy, culture of sample from faeces or vom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 Prevention: Purification of water, washing of han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 Treatment: administration of solution of glucose and electrolyte orally or intravenously; tetracycline antibiotic ora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oler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5.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Incubation period: 12-48 hou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6. Lab diagnosis: Microscopy, culture of sample from faeces or vomi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7. Prevention: Purification of water, washing of hand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8. Treatment: administration of solution of glucose and electrolyte orally or intravenously; tetracycline antibiotic orall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la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sative Agent: Plasmodium (4 speci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mptoms (Clinical features): fever, chills, anaemia, headache, nausea, shivering, convulsions (esp. in under 5 yr olds) enlarged sple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hogenesis: site of action of pathogen include: liver, RBC, brain. The vector, female Anopheles mosquito, transfer pathogen during fee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lari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usative Agent: Plasmodium (4 species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ymptoms (Clinical features): fever, chills, anaemia, headache, nausea, shivering, convulsions (esp. in under 5 yr olds) enlarged splee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thogenesis: site of action of pathogen include: liver, RBC, brain. The vector, female Anopheles mosquito, transfer pathogen during feeding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la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Epidemiology: Endemic in 91 tropical and subtropical countries. Invade the liver 1st and move to reproduce in RBCs resulting in their rupture and the associated chi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 Incubation Period: 1 – 2 week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 Lab diagnosis: Microscop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lari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. Epidemiology: Endemic in 91 tropical and subtropical countries. Invade the liver 1st and move to reproduce in RBCs resulting in their rupture and the associated chill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5. Incubation Period: 1 – 2 week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6. Lab diagnosis: Microscop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Infected RB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 Infected RB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laria - Preven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e the number of mosquitoes; destruction of larvae and adult mosquitoes by biological and chemical control metho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void being bitten; protective clothing and creams, treated bed n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of drugs to prevent infection; chemoprophylax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laria - Preven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duce the number of mosquitoes; destruction of larvae and adult mosquitoes by biological and chemical control method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void being bitten; protective clothing and creams, treated bed ne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se of drugs to prevent infection; chemoprophylaxi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laria -Treat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bination therapy: Artesunate Amodiaqu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laria -Treatm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bination therapy: Artesunate Amodiaqui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bercul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hogen: M. tuberculosis (pulmonary TB); M. bovis(GI TB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mission: airborne droplets (NB MTB is dessication resistant and survives in dried sputum); unpasteurized mil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nical features: prolonged coughing sometimes with bloody sputum, shortness of breath, fever, sweating , weight lo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uberculosi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thogen: M. tuberculosis (pulmonary TB); M. bovis(GI TB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ansmission: airborne droplets (NB MTB is dessication resistant and survives in dried sputum); unpasteurized milk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linical features: prolonged coughing sometimes with bloody sputum, shortness of breath, fever, sweating , weight los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bercul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No toxin production. Pathogenicty is by invasiveness that produce characteristic lesions in the lung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 Epidemiology: pathogen triggers acute inflammatory response + forms tubercle – giant cells containing MTB and surrounded by epithelial cells. Tubercles heals by fibrosis and calcification. Can desseminate via bloodstream to other internal org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uberculosi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. No toxin production. Pathogenicty is by invasiveness that produce characteristic lesions in the lung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5. Epidemiology: pathogen triggers acute inflammatory response + forms tubercle – giant cells containing MTB and surrounded by epithelial cells. Tubercles heals by fibrosis and calcification. Can desseminate via bloodstream to other internal orga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l Micro flora &amp; its impor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vent the growth of pathog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imulate the immune system to produce antibodies that cross-react with invading pathog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d in digestion of cellulose in rumina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e essential nutri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rmal Micro flora &amp; its importa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event the growth of pathoge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imulate the immune system to produce antibodies that cross-react with invading pathoge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id in digestion of cellulose in ruminant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duce essential nutrien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ch’s Postul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ame pathogen must be  present in every case of the diseas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thogen must be isolated from the diseased host and grown in pure cultur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thogen from the pure culture must cause the disease when it is introduced into a healthy but susceptible organis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thogen must be isolated from the inoculated animal and be shown to be the original organis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Koch’s Postulat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same pathogen must be  present in every case of the disease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pathogen must be isolated from the diseased host and grown in pure culture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pathogen from the pure culture must cause the disease when it is introduced into a healthy but susceptible organism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pathogen must be isolated from the inoculated animal and be shown to be the original organism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ifications to Koch’s Postul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infectious agents cannot be cultured e.g. pr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pathogens have non-virulent strains whose presence does not link them to a disease. E.g. non encapsulated Diplococcus pneumonia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difications to Koch’s Postulat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me infectious agents cannot be cultured e.g. pr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me pathogens have non-virulent strains whose presence does not link them to a disease. E.g. non encapsulated Diplococcus pneumoniae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Pathog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m posi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m neg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id-Fast e.g. Mycobac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herical described as coc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d shaped described as bacil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ypes of Pathoge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acteri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ram positiv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ram negativ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cid-Fast e.g. Mycobacteri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pherical described as cocc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od shaped described as bacill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m Posi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que Fea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ck peptidoglycan 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periplasmic 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outer membrane (capsu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Streptococcus pyogenes, Staphylococcus aureus, Bacillus anthracis, Clostridium tetani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ram Positiv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nique Featur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ck peptidoglycan wal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 periplasmic spa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 outer membrane (capsule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.g. Streptococcus pyogenes, Staphylococcus aureus, Bacillus anthracis, Clostridium tetani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m Positive 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ram Positive wal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m Nega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que fea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 peptidoglycan 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 periplasmic space containing different degradative enzymes such as deoxyribonucleases, -lactamases and prote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er membrane containing lipid A, an endotox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Neisseria, Salmonella typhi, E. coli, Yersinia pestis, Vibrio cholera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ram Negativ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nique featur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n peptidoglycan wal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as periplasmic space containing different degradative enzymes such as deoxyribonucleases, -lactamases and proteas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uter membrane containing lipid A, an endotox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.g. Neisseria, Salmonella typhi, E. coli, Yersinia pestis, Vibrio cholera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B286C-865B-4F73-B928-C4D53F214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055D4-0977-4D33-9FBF-578EA9C76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BA279-7A25-4988-90C5-734706328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83E23-456A-4127-A51F-43B1B40D7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E823F7-706B-4461-8A46-080CE2C04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7C11C6-2731-4E56-BFE9-894AE35EF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919E58-ADB2-4C0B-A0A1-13ACE42EF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CF8408-6269-49E3-B72E-2FC40FB8E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D22957-F5B9-49BA-9F53-D2CFCACD4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67F693-5B84-4523-B670-A72ADBA86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74D29C-CAAB-44B4-9F5D-2BC3AEBDD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A30E7-27A0-4A8D-A1AA-2DDDAD933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2F9739-66AE-45B4-A250-338B369F1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9B777F-95AE-4453-952E-39D37515E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1CE42E-51E4-4A9E-A5E5-4A5D723E2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1E6C28-1722-4C4E-B03B-F1B979F5F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D819FE-B7AC-4426-951E-38BF674B4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47ADD-EDC9-4A6F-A763-3F1E7896E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CBF3E-3AC9-45A6-9A2C-995F0748E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C139A-53C7-476E-B095-2EAF72F82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0B95B-C989-44CB-8575-5AC535881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00005-920D-480A-B8B7-5B50CFFA5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9DA23-4F13-429B-AF0D-75C71AE2A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B7281-8655-4869-976B-48A86230B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AF695-31B4-4845-BA44-7CD89B37E2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23455-D583-4C69-981C-9E62F10FB54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3520" y="1752120"/>
            <a:ext cx="8229600" cy="259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Infectious Diseases</a:t>
            </a:r>
            <a:br>
              <a:rPr sz="6000"/>
            </a:br>
            <a:br>
              <a:rPr sz="6000"/>
            </a:b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By</a:t>
            </a:r>
            <a:br>
              <a:rPr sz="4400"/>
            </a:b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Andoh Wilso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Gram Negative wall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48" name="Picture 7" descr="E906945C"/>
          <p:cNvPicPr/>
          <p:nvPr/>
        </p:nvPicPr>
        <p:blipFill>
          <a:blip r:embed="rId1"/>
          <a:srcRect l="43654" t="10454" r="0" b="56452"/>
          <a:stretch/>
        </p:blipFill>
        <p:spPr>
          <a:xfrm>
            <a:off x="533520" y="1447920"/>
            <a:ext cx="822960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Types of pathogen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rasites (Eukaryotic Pathoge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ungi e.g.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Candida, Aspergill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tozoa e.g.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Plasmodium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Schistosom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orms e.g.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Ascaris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Taen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Types of pathogen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iru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e pieces of DNA or RNA surrounded by protein coat. The may b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capsulated e.g. HIV, HBV, measles, mumps, influenza, rab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n-encapsulated e.g.adenoviruses, HPV, Poli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Virus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54" name="Picture 6" descr="CB114BB6"/>
          <p:cNvPicPr/>
          <p:nvPr/>
        </p:nvPicPr>
        <p:blipFill>
          <a:blip r:embed="rId1"/>
          <a:srcRect l="58262" t="64115" r="0" b="14926"/>
          <a:stretch/>
        </p:blipFill>
        <p:spPr>
          <a:xfrm>
            <a:off x="4724280" y="1219320"/>
            <a:ext cx="4419720" cy="49068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7" descr="2F89C934"/>
          <p:cNvPicPr/>
          <p:nvPr/>
        </p:nvPicPr>
        <p:blipFill>
          <a:blip r:embed="rId2"/>
          <a:srcRect l="60349" t="47319" r="0" b="38048"/>
          <a:stretch/>
        </p:blipFill>
        <p:spPr>
          <a:xfrm>
            <a:off x="0" y="1600200"/>
            <a:ext cx="46483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Modes of transmissio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rect contact e.g. touching, handshaking, or sexual intercours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direct contact e.g. food, water or droplets in air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imal vectors e.g. insect bites in malaria, plague and oncho, dog bite in rab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Pathogenesi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4560" y="1066680"/>
            <a:ext cx="83818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quence of activi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nsmission of causative agent to susceptible host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herence of the agent to a target tissue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lonization and invasion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mage to host by toxins or other mechanisms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it from host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rvival outside host long enough for step 1 to occu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Virulent Factor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all pathogens there is an infective dose and a lethal dos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irulent factors that confer pathogenicity include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ili that facilitate attachmen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psules that interfere with phagocyt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otoxi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dotoxi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teases that break down antibod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bility to vary antigens to evade antibod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Bacterial Pathogenesi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xin production. Toxins fall into two categories; </a:t>
            </a:r>
            <a:r>
              <a:rPr b="0" lang="en-US" sz="3200" spc="-1" strike="noStrike">
                <a:solidFill>
                  <a:srgbClr val="00ffcc"/>
                </a:solidFill>
                <a:latin typeface="Arial"/>
              </a:rPr>
              <a:t>exotoxin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nd</a:t>
            </a:r>
            <a:r>
              <a:rPr b="0" lang="en-US" sz="3200" spc="-1" strike="noStrike">
                <a:solidFill>
                  <a:srgbClr val="00ffcc"/>
                </a:solidFill>
                <a:latin typeface="Arial"/>
              </a:rPr>
              <a:t> endotoxins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vasiveness, where bacteria grow to large numbers locally and produce enzymes that damage host tissue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exotoxin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at labile (60-100 degrees for 30 mins) proteins produced and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release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by both gram positive and gram negative bacteri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duced by bacteria such as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Clostridium (neurotoxins)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Bacillus (enterotoxin) (+)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E. coli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Vibrio (enterotoxin)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(-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endotoxin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e heat stable (100 degrees for 1 hr) lipopolysaccharide produced only by gram –ve bacteria. They remain attached to cell wal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use fever and shock and is of lower toxicity compared to exotoxi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duced by bacteria such as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Salmonell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Infectious Disease Term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pidem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dem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ndem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thog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pportuni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socomi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irule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holera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usative Agent: Vibrio cholera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ymptoms: severe diarrhoea up to 20 liters a day of “rice water stool”, vomiting, muscle cramps caused by loss fluid and electrolyt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thogenesis: Vibrio adheres to the small intestinal lining, multiply and produce the enterotoxin choleragen which causes the accumulation of cAMP. An increased secretion of water and electrolyte from the cells resul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Cholera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. Epidemiology: Feacally contaminated water, crabs and vegetables fertilized with human faeces. Has been eradicated most developed countries but a new strain discovered in 1992 is threatening another pandemi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holera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ncubation period: 12-48 hou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6. Lab diagnosis: Microscopy, culture of sample from faeces or vomi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7. Prevention: Purification of water, washing of hand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8. Treatment: administration of solution of glucose and electrolyte orally or intravenously; tetracycline antibiotic oral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malaria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686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usative Agent: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Plasmodium (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 specie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ymptoms (Clinical features): fever, chills, anaemia, headache, nausea, shivering, convulsions (esp. in under 5 yr olds) enlarged splee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thogenesis: site of action of pathogen include: liver, RBC, brain. The vector, female Anopheles mosquito, transfer pathogen during feed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malaria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. Epidemiology: Endemic in 91 tropical and subtropical countries. Invade the liver 1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nd move to reproduce in RBCs resulting in their rupture and the associated chill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. Incubation Period: 1 – 2 week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6. Lab diagnosis: Microscop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An Infected RBC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79" name="Picture 5" descr=""/>
          <p:cNvPicPr/>
          <p:nvPr/>
        </p:nvPicPr>
        <p:blipFill>
          <a:blip r:embed="rId1"/>
          <a:stretch/>
        </p:blipFill>
        <p:spPr>
          <a:xfrm>
            <a:off x="228600" y="1371600"/>
            <a:ext cx="84582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Malaria - Preventio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duce the number of mosquitoes; destruction of larvae and adult mosquitoes by biological and chemical control metho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void being bitten; protective clothing and creams, treated bed ne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 of drugs to prevent infection; chemoprophylax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Malaria -Treatmen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bination therapy: Artesunate Amodiaqu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Tuberculosi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8390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thogen: M. tuberculosis (pulmonary TB); M. bovis(GI TB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nsmission: airborne droplets (NB MTB is dessication resistant and survives in dried sputum); unpasteurized milk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nical features: prolonged coughing sometimes with bloody sputum, shortness of breath, fever, sweating , weight lo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Tuberculosi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. No toxin production. Pathogenicty is by invasiveness that produce characteristic lesions in the lung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. Epidemiology: pathogen triggers acute inflammatory response + forms tubercle – giant cells containing MTB and surrounded by epithelial cells. Tubercles heals by fibrosis and calcification. Can desseminate via bloodstream to other internal orga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Normal Micro flora &amp; its importance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vent the growth of pathoge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imulate the immune system to produce antibodies that cross-react with invading pathoge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id in digestion of cellulose in ruminan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duce essential nutr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Koch’s Postulat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9154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ame pathogen must be  present in every case of the disease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pathogen must be isolated from the diseased host and grown in pure culture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pathogen from the pure culture must cause the disease when it is introduced into a healthy but susceptible organis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pathogen must be isolated from the inoculated animal and be shown to be the original organis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Modifications to Koch’s Postulates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 infectious agents cannot be cultured e.g. pr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 pathogens have non-virulent strains whose presence does not link them to a disease. E.g. non encapsulated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Diplococcus pneumonia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Types of Pathogen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c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am po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am nega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id-Fast e.g.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Mycobacter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e3e3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pherical described as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cocc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e3e3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od shaped described as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bacill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Gram Positiv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ique Featu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ck peptidoglycan wa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 periplasmic sp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 outer membrane (capsul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.g.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Streptococcus pyogenes, Staphylococcus aureus, Bacillus anthracis, Clostridium tetani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Gram Positive wall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43" name="Picture 6" descr="DFFD6E10"/>
          <p:cNvPicPr/>
          <p:nvPr/>
        </p:nvPicPr>
        <p:blipFill>
          <a:blip r:embed="rId1"/>
          <a:srcRect l="0" t="18664" r="74961" b="64245"/>
          <a:stretch/>
        </p:blipFill>
        <p:spPr>
          <a:xfrm>
            <a:off x="0" y="1295280"/>
            <a:ext cx="4419720" cy="51055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7" descr="7574CE9E"/>
          <p:cNvPicPr/>
          <p:nvPr/>
        </p:nvPicPr>
        <p:blipFill>
          <a:blip r:embed="rId2"/>
          <a:srcRect l="25042" t="6954" r="4000" b="62404"/>
          <a:stretch/>
        </p:blipFill>
        <p:spPr>
          <a:xfrm>
            <a:off x="4419720" y="1295280"/>
            <a:ext cx="472428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Gram Negativ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ique featu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n peptidoglycan wa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s periplasmic space containing different degradative enzymes such as deoxyribonucleases,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lactamases and prote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uter membrane containing lipid A, an endotox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.g.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Neisseri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Salmonella typhi, E. coli, Yersinia pestis, Vibrio cholera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3T22:19:54Z</dcterms:created>
  <dc:creator>ANDOH</dc:creator>
  <dc:description/>
  <dc:language>en-US</dc:language>
  <cp:lastModifiedBy>RomaK</cp:lastModifiedBy>
  <dcterms:modified xsi:type="dcterms:W3CDTF">2015-09-04T10:48:08Z</dcterms:modified>
  <cp:revision>16</cp:revision>
  <dc:subject/>
  <dc:title>Infectious Diseases</dc:title>
</cp:coreProperties>
</file>